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97ED-3154-4582-BD7D-EF9D232C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E9A8-34F8-4B69-9362-3A0BC6AF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671A-ABEE-44C1-A30D-E53B9679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243B-578B-4B8A-873B-C1FB2AD4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44A4-14C8-45DF-A6C9-57E13062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1C99-964C-4B1C-96F0-31897EA4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F74C-BEEA-4632-8AC5-FA7AFB3B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5154-FA90-40B4-978B-B14D4E20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A46A-676D-4B34-BEE1-02F44F4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DACC-1197-451D-82DA-9BA0C247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1F18-F883-4DCC-A845-F55E889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F9B6-FBF6-45DB-AB26-AF5A04F4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6B1E-E4DF-4523-89E2-B44842FA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02CE-9FDF-469E-A01C-242F3C6C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A95F-5A78-49E1-A0D0-98DC965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39A2-AC10-4576-BDE7-626A48C8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46EA-5438-49D1-A35E-84E6695A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0B90-A8D2-4099-8C74-7CB9A701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3BE6-9BF4-4FBA-B109-D69AAA13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18E9-5A2B-420B-89A1-6BBEE778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DBF2-9751-4675-9CDC-2FAF07A7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489E-370D-451F-9FBE-D2E0CD17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2CA9-0092-4966-98D8-378F5620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8D98-9680-4128-89EB-B03E5BCA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4453-5CAE-462B-95DD-916C36BE2B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0E42-060A-4303-B08A-450AD083FB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Book Antiqua"/>
              </a:rPr>
              <a:t>Mormon Pioneers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Book Antiqua"/>
              </a:rPr>
              <a:t>Who are the Mormons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mbers of The Church of Jesus Christ of Latter-day Sai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arted in 1830 and lead by Joseph Smith J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oseph Smith brought forth Book of Morm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ersecuted for unique religious belief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ace they lived before coming to Ut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lmyra, New Y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irtland Oh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dependence, Missou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overnor Boggs gave the extermination ord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uvoo, Illino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rmons asked U.S. government to take action, but were refus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oseph Smith killed and Brigham Young takes his p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rmons are forced out of Nauvo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Book Antiqua"/>
              </a:rPr>
              <a:t>The Trek Wes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ent the winter in Iowa at Winters Quar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 government asked the Mormons to help them fight the Mexicans, the group that helped them was called the Mormon Battal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Book Antiqua"/>
              </a:rPr>
              <a:t>The Advance Party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was a group that left first to help those who were to come 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t up f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ft descriptions of the tra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ear pa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rived in the valley on July 22, 18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Book Antiqua"/>
              </a:rPr>
              <a:t>Life on trail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ng tedious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eople often got sick from sanitation conditions and nutritional deficienc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cident often occur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etter than most going to Oregon Trai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ixed emotions about where they were sett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1:52:07Z</dcterms:created>
  <dc:creator>James Fife</dc:creator>
  <dc:description/>
  <dc:language>en-US</dc:language>
  <cp:lastModifiedBy>student</cp:lastModifiedBy>
  <dcterms:modified xsi:type="dcterms:W3CDTF">2009-03-16T14:51:58Z</dcterms:modified>
  <cp:revision>3</cp:revision>
  <dc:subject/>
  <dc:title>Mormon Pioneers</dc:title>
</cp:coreProperties>
</file>